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21.wmf" ContentType="image/x-wmf"/>
  <Override PartName="/ppt/media/image19.wmf" ContentType="image/x-wmf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350-E298-4462-A1AD-A0CDE3E8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2D6-9C28-4C1F-9EF4-F70445D0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F98-E2E5-4848-83FC-8AFE62B2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EC9-409F-4F76-AD13-1E539187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777E-54E2-443F-9DC4-00381437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4D86-476E-42D5-85AA-6DBB4857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4DC5-07A3-42E4-B742-E50E7E32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405B-71A7-4AC4-A93E-6C747FE4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F2DB-4EBA-47C9-9153-F2BF8C5F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55DF-FF26-40CF-BCFA-5598B5C1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4C73-D0B0-44EF-995F-60B9A9E7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3A4-4D47-4EC0-8D58-AFAA7E05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4481-6F95-4396-83F7-57D74C05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AC67-FEF7-4BED-ABA6-A3D93483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055D-9C1A-48B4-9813-D0C83722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0E7B-50A1-40F6-8FAB-1362E670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28C3-C235-4921-8EB3-5620E20C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1D3A7-499D-4059-B79B-5E6CADD7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A7401-F5BF-4F8C-8744-783FA102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E3F8C-0225-464D-8C0D-4B123A14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D4B9-D270-4B60-BD3C-91F64560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6E6DA-3FF8-41B3-BEC4-6E2B4C90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419-DDB5-4C04-B314-08CB289E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CF79B-9BF4-44A2-AD7F-427194CA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1282-2159-4124-9575-786BD4A5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C3AA2-CCF4-47B3-B6B6-47CE3104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2AA4A-190C-4797-986E-8EEC78BB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6207C-4C6B-467A-9AA8-0ABFF8EF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D5AE6-A5BD-4C90-B4F0-1082536E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42AE4-E5AD-4111-8A1D-C71C5D32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BE747-7A90-43DC-A8B2-8C14EE0D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5134A-E277-469F-BAB1-37EED016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7BA2D-2386-43A2-A805-19FB2822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AE7-5243-4D12-A31E-CA057385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61EAF-900E-429A-B1F5-8F87A539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7BED1-23E6-43ED-A165-25D45DF3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89932-09FE-4321-B7B6-87859AFB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DF9F6-CF90-4584-9A44-163F199B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721AF-5991-4CE2-9F7A-249D07ED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82F3A-D835-4C88-A928-16C9A972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11548-F955-4D3B-8156-742C45E6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5ECDD-DE06-42DA-80B3-9E2901D1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D75AE-A298-43BD-AD19-34620454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479D0-3181-45C5-901C-BCB2F10D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7CA-7F91-485C-8A93-BE79A556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22A75-AAA6-4E95-B98F-84D866DD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A7B95-B74C-4D71-95A4-EE0E2ED9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E9931-0213-4A97-9CA3-6900A7AA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A7EED-15B7-4F0F-8219-7D7AAF33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CCDC5-27BB-41B8-A702-39A5BB02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BAFF0-A1D8-4C04-A8AA-C91F1DC8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ABC70-7126-4617-8D04-399AF957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4042E-89A2-4FBF-88F7-8FCE0DDE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594F0-89D3-4034-84F6-4C5D498A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E6741-A177-4081-B8B4-BD0B2FC1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511-C864-468C-92A4-D46C85B9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CC481-9A20-4B5B-B828-30B8ECDE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9C4-2199-4583-9A7F-1FBE1C1F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4A5-681D-48FB-B04C-9C7D5DE7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076-3523-4226-A070-3742B318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60B2-9847-46C4-83CE-145CBAD039A5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4422-F8C1-4737-AB89-3D91D1A17046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88A1-3A8D-4B12-BF0D-643AB52688AB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C3C0-2590-4DEC-8C3E-AD568E6D5E3D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E2D2-E3A0-41BE-96E7-F1E6DA5FF9B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0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1066680" y="907920"/>
            <a:ext cx="6207120" cy="259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a2e4e"/>
                </a:solidFill>
                <a:latin typeface="Arial"/>
              </a:rPr>
              <a:t>Сочинение-рассужд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a2e4e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a2e4e"/>
                </a:solidFill>
                <a:latin typeface="Arial"/>
              </a:rPr>
              <a:t>на лингвистическую те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a2e4e"/>
              </a:solidFill>
              <a:latin typeface="Arial"/>
              <a:ea typeface="Arial"/>
            </a:endParaRPr>
          </a:p>
        </p:txBody>
      </p:sp>
      <p:pic>
        <p:nvPicPr>
          <p:cNvPr id="221" name="Picture 4" descr="sova24"/>
          <p:cNvPicPr/>
          <p:nvPr/>
        </p:nvPicPr>
        <p:blipFill>
          <a:blip r:embed="rId1"/>
          <a:stretch/>
        </p:blipFill>
        <p:spPr>
          <a:xfrm>
            <a:off x="2590920" y="3429000"/>
            <a:ext cx="365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Для связи тезиса и доказательства обычно используются следующие словосочетания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докажем это, это можно доказать так, это можно доказать следующим образо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4" descr="Рисунок1-"/>
          <p:cNvPicPr/>
          <p:nvPr/>
        </p:nvPicPr>
        <p:blipFill>
          <a:blip r:embed="rId1"/>
          <a:stretch/>
        </p:blipFill>
        <p:spPr>
          <a:xfrm>
            <a:off x="4038480" y="3581280"/>
            <a:ext cx="2667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Выводы приводят нас к поставленной лингвистической проблеме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4" descr="Рисунок18"/>
          <p:cNvPicPr/>
          <p:nvPr/>
        </p:nvPicPr>
        <p:blipFill>
          <a:blip r:embed="rId1"/>
          <a:stretch/>
        </p:blipFill>
        <p:spPr>
          <a:xfrm>
            <a:off x="2819520" y="3657600"/>
            <a:ext cx="3047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225360" y="317520"/>
            <a:ext cx="748044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Справочник школьника. Русский язык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Под ред. В.Славкина – М., 1999 г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Елисеева М. Т. Работа над изложением и сочинением// Начальная школа. - №.- 1981. - с. 26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Закожурникова М. Л. Обучение изложению и сочинению в средней школе. – М., 1953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Корепина Л. Ф., Борисенко Ю. Н. Работа над сочинениями разных жанров //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.- № 12. – 1997. – с. 30-35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Купров В. Д. Образно – эмоциональное описание предмета // Начальная школ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4" descr="j0299125"/>
          <p:cNvPicPr/>
          <p:nvPr/>
        </p:nvPicPr>
        <p:blipFill>
          <a:blip r:embed="rId2"/>
          <a:stretch/>
        </p:blipFill>
        <p:spPr>
          <a:xfrm>
            <a:off x="7848720" y="2666880"/>
            <a:ext cx="11001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86400" cy="2878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Documents and Settings\Васько\Рабочий стол\щенок\пипип\2.jpg"/>
          <p:cNvPicPr/>
          <p:nvPr/>
        </p:nvPicPr>
        <p:blipFill>
          <a:blip r:embed="rId2"/>
          <a:stretch/>
        </p:blipFill>
        <p:spPr>
          <a:xfrm>
            <a:off x="3733920" y="312408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Целью вступления является подготовка читателя к восприятию написанного вами текст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написании вступления можно использовать следующие приемы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Небольшое обобщение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в котором необходимо показать, что тема сочинения-рассуждения актуальна. Например:  </a:t>
            </a: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Глагол обладает огромным потенциалом для выражения бесчисленных действий, связанных с жизнью и деятельностью челове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25360" y="317520"/>
            <a:ext cx="74804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Цитата в качестве зачина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Цитированный фрагмент не должен быть большим, а главное – он должен иметь прямое отношение к тем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«Местоимения удобны и прагматичны, но в них нет «перелива красок» настоящего живого слова, они не могут иметь при себе характеризующего эпитета», - так писал о местоимениях известный лингвист А. А, Реформатски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68200" y="-6480"/>
            <a:ext cx="4919760" cy="5273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56840" y="1609200"/>
            <a:ext cx="4343400" cy="4846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Documents and Settings\Васько\Рабочий стол\633977_3.jpg"/>
          <p:cNvPicPr/>
          <p:nvPr/>
        </p:nvPicPr>
        <p:blipFill>
          <a:blip r:embed="rId3"/>
          <a:stretch/>
        </p:blipFill>
        <p:spPr>
          <a:xfrm>
            <a:off x="5029200" y="1600200"/>
            <a:ext cx="2895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написании основной части надо помнить, что вы пишите сочинение-рассуждение и что существует три вида рассужден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Рассуждение-доказательство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меет целью доказать истинность или ложность главного утверждения тезис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Рассуждение на лингвистическую тему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ключает в себя объяснение и доказательство, в котором необходимо привести примеры, указать причинно-следственные отношения. В отличие от рассуждения-доказательства и рассуждения-объяснения, оно содержит в себе не один вопрос и ответ, а систему вопросов и ответов, последовательно дополняющих друг друг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одведение к вопросу →тезис →доказательство тезиса → вывод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4" descr="1и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71800" y="3505320"/>
            <a:ext cx="3200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352320" y="1523880"/>
            <a:ext cx="5410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Для связи тезиса и доказательства обычно используются следующие словосочетания: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докажем это, это можно доказать так, это можно доказать следующим образом, это объясняет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4" descr="J0079258"/>
          <p:cNvPicPr/>
          <p:nvPr/>
        </p:nvPicPr>
        <p:blipFill>
          <a:blip r:embed="rId1"/>
          <a:stretch/>
        </p:blipFill>
        <p:spPr>
          <a:xfrm>
            <a:off x="228600" y="2743200"/>
            <a:ext cx="2695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ько</cp:lastModifiedBy>
  <dcterms:modified xsi:type="dcterms:W3CDTF">2010-05-22T16:43:2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